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8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26T23:18:39.386000000" idx="2">
    <p:pos x="794" y="4048"/>
    <p:text/>
  </p:cm>
</p:cmLst>
</file>

<file path=ppt/comments/comment8.xml><?xml version="1.0" encoding="utf-8"?>
<p:cmLst xmlns:p="http://schemas.openxmlformats.org/presentationml/2006/main">
  <p:cm authorId="0" dt="2016-08-26T23:18:32.451000000" idx="1">
    <p:pos x="3995" y="73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18B-9D86-4D98-BC94-C3BE70F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08B-E38C-48C6-A410-045A7AB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97F-BC36-457E-B2C1-DD6A824F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248-FC2A-4BE2-A720-5684FD02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7C7A-A357-4AC1-A307-0565250E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307-DDF8-40DF-944A-5DC1F2F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AB7-30D4-4C6E-956B-41B75E66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8A72-9429-45E9-9347-062D4BB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2E5-48C5-4D05-8191-58E52C7E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3908-DCE8-4FB8-9298-E89A4ADA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E92B-C4ED-4301-BCD9-2282A06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C0F-8FF3-4A03-ACB3-6062A77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50A4-AFF8-41B1-AB65-06E8394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630-F784-4AD1-AA14-0E3B86B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13C0-2A13-4C6D-ABD5-40A805E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1A9B-C59D-4E87-BC60-D6390CA5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DF3-2EF0-48BE-90FA-4DD7129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E5B-CE08-462C-A75A-7207214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1A4-5150-4238-B5AF-EA42B14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BAA-7B79-41A1-98BD-9509D21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F06-E249-48CC-B91B-62A9C5AE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8C6-7083-42D7-945E-8F70F96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DD7-6A86-4590-BD82-95F6F161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29C-E9EF-4B69-B853-B5B4AD9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174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174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174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174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174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175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175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date/time&gt;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2540-5192-4DB6-A475-941E70873229}" type="slidenum"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276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277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277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277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277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277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277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date/time&gt;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599E-2BDA-4DE2-9FA7-9AA4EF10D054}" type="slidenum"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&lt;number&gt;</a:t>
            </a:fld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k&#30340;&#20889;&#27861;.swf" TargetMode="External"/><Relationship Id="rId3" Type="http://schemas.openxmlformats.org/officeDocument/2006/relationships/hyperlink" Target="../../../4.15&#19968;&#25913;&#31295;/&#35838;&#20214;&#25913;/4.16&#609; k h/k&#30340;&#20889;&#27861;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../4.15&#19968;&#25913;&#31295;/&#35838;&#20214;&#25913;/4.16&#609; k h/h&#30340;&#20889;&#27861;.swf" TargetMode="External"/><Relationship Id="rId3" Type="http://schemas.openxmlformats.org/officeDocument/2006/relationships/hyperlink" Target="../../../4.15&#19968;&#25913;&#31295;/&#35838;&#20214;&#25913;/4.16&#609; k h/h&#30340;&#20889;&#27861;.swf" TargetMode="External"/><Relationship Id="rId4" Type="http://schemas.openxmlformats.org/officeDocument/2006/relationships/hyperlink" Target="../../../4.15&#19968;&#25913;&#31295;/&#35838;&#20214;&#25913;/4.16&#609; k h/h&#30340;&#20889;&#27861;.sw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4"/>
          <p:cNvSpPr/>
          <p:nvPr/>
        </p:nvSpPr>
        <p:spPr>
          <a:xfrm>
            <a:off x="3659040" y="649440"/>
            <a:ext cx="33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g  k  h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歌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2690640" cy="361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g ē  gē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苦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91080" y="1022400"/>
            <a:ext cx="4583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k ǔ  kǔ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250920" y="1881360"/>
            <a:ext cx="409572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户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788000" y="1057320"/>
            <a:ext cx="458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h ù  hù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539640" y="2703600"/>
            <a:ext cx="4430880" cy="3322440"/>
          </a:xfrm>
          <a:prstGeom prst="rect">
            <a:avLst/>
          </a:prstGeom>
          <a:ln w="0">
            <a:noFill/>
          </a:ln>
        </p:spPr>
      </p:pic>
      <p:sp>
        <p:nvSpPr>
          <p:cNvPr id="183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0972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    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ér 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儿  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ē  ge   yǒu   zhī  xiǎo bái  gē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哥 哥   有   只 小  白 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x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ǎ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b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c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ng  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小  白 鸽  爱  唱  歌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咕 咕 咕，咕 咕  咕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g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īng le  xi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à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ē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e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华文新魏"/>
              </a:rPr>
              <a:t>哥 哥 听 了笑  呵 呵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" name="Picture 3" descr="c3ba852ed6441d6ed42af1cc"/>
          <p:cNvPicPr/>
          <p:nvPr/>
        </p:nvPicPr>
        <p:blipFill>
          <a:blip r:embed="rId1"/>
          <a:stretch/>
        </p:blipFill>
        <p:spPr>
          <a:xfrm>
            <a:off x="6804000" y="2637000"/>
            <a:ext cx="1633680" cy="1942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u=2468400631,1213018213&amp;fm=0&amp;gp=0"/>
          <p:cNvPicPr/>
          <p:nvPr/>
        </p:nvPicPr>
        <p:blipFill>
          <a:blip r:embed="rId2"/>
          <a:stretch/>
        </p:blipFill>
        <p:spPr>
          <a:xfrm>
            <a:off x="755640" y="2709720"/>
            <a:ext cx="1130400" cy="131472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3"/>
          <p:cNvSpPr/>
          <p:nvPr/>
        </p:nvSpPr>
        <p:spPr>
          <a:xfrm>
            <a:off x="1692360" y="10936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d"/>
              </a:gs>
              <a:gs pos="100000">
                <a:srgbClr val="d8d7e3"/>
              </a:gs>
            </a:gsLst>
            <a:lin ang="5400000"/>
          </a:gradFill>
          <a:ln w="648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圆角矩形 2"/>
          <p:cNvSpPr/>
          <p:nvPr/>
        </p:nvSpPr>
        <p:spPr>
          <a:xfrm>
            <a:off x="468360" y="3068640"/>
            <a:ext cx="655164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58920" y="342900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gù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685960" y="1268280"/>
            <a:ext cx="3254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b0f0"/>
                </a:solidFill>
                <a:uFillTx/>
                <a:latin typeface="宋体"/>
                <a:ea typeface="宋体"/>
              </a:rPr>
              <a:t>大声读一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381560" y="34290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hé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252440" y="4375080"/>
            <a:ext cx="1954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gè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73640" y="437508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宋体"/>
                <a:ea typeface="宋体"/>
              </a:rPr>
              <a:t>kè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031840" y="3444840"/>
            <a:ext cx="19544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故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67360" y="3444840"/>
            <a:ext cx="19526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禾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025720" y="442260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个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078520" y="425916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课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宋体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同侧圆角矩形 13"/>
          <p:cNvSpPr/>
          <p:nvPr/>
        </p:nvSpPr>
        <p:spPr>
          <a:xfrm>
            <a:off x="468360" y="12733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8360" cy="418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2286000" y="5425920"/>
            <a:ext cx="4334040" cy="638280"/>
          </a:xfrm>
          <a:prstGeom prst="rect">
            <a:avLst/>
          </a:prstGeom>
          <a:ln w="0">
            <a:noFill/>
          </a:ln>
        </p:spPr>
      </p:pic>
      <p:sp>
        <p:nvSpPr>
          <p:cNvPr id="10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893440" cy="5248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539400" y="422100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5076720" y="4076640"/>
            <a:ext cx="3384720" cy="1702080"/>
            <a:chOff x="5076720" y="4076640"/>
            <a:chExt cx="3384720" cy="1702080"/>
          </a:xfrm>
        </p:grpSpPr>
        <p:grpSp>
          <p:nvGrpSpPr>
            <p:cNvPr id="110" name=""/>
            <p:cNvGrpSpPr/>
            <p:nvPr/>
          </p:nvGrpSpPr>
          <p:grpSpPr>
            <a:xfrm>
              <a:off x="5085000" y="5190480"/>
              <a:ext cx="3360600" cy="360"/>
              <a:chOff x="5085000" y="5190480"/>
              <a:chExt cx="3360600" cy="360"/>
            </a:xfrm>
          </p:grpSpPr>
          <p:sp>
            <p:nvSpPr>
              <p:cNvPr id="111" name="Line 7"/>
              <p:cNvSpPr/>
              <p:nvPr/>
            </p:nvSpPr>
            <p:spPr>
              <a:xfrm>
                <a:off x="5085000" y="519048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085000" y="519048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076720" y="4636440"/>
              <a:ext cx="3360960" cy="360"/>
              <a:chOff x="5076720" y="4636440"/>
              <a:chExt cx="3360960" cy="360"/>
            </a:xfrm>
          </p:grpSpPr>
          <p:sp>
            <p:nvSpPr>
              <p:cNvPr id="114" name="Line 8"/>
              <p:cNvSpPr/>
              <p:nvPr/>
            </p:nvSpPr>
            <p:spPr>
              <a:xfrm>
                <a:off x="5076720" y="4636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5076720" y="4636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90040" y="5778360"/>
              <a:ext cx="3360960" cy="360"/>
              <a:chOff x="5090040" y="5778360"/>
              <a:chExt cx="3360960" cy="360"/>
            </a:xfrm>
          </p:grpSpPr>
          <p:sp>
            <p:nvSpPr>
              <p:cNvPr id="117" name="Line 9"/>
              <p:cNvSpPr/>
              <p:nvPr/>
            </p:nvSpPr>
            <p:spPr>
              <a:xfrm>
                <a:off x="5090040" y="577836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5090040" y="577836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00480" y="4076640"/>
              <a:ext cx="3360960" cy="360"/>
              <a:chOff x="5100480" y="4076640"/>
              <a:chExt cx="3360960" cy="360"/>
            </a:xfrm>
          </p:grpSpPr>
          <p:sp>
            <p:nvSpPr>
              <p:cNvPr id="120" name="Line 10"/>
              <p:cNvSpPr/>
              <p:nvPr/>
            </p:nvSpPr>
            <p:spPr>
              <a:xfrm>
                <a:off x="5100480" y="4076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100480" y="4076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3902040" cy="432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673440" cy="2489040"/>
          </a:xfrm>
          <a:prstGeom prst="rect">
            <a:avLst/>
          </a:prstGeom>
          <a:ln w="0">
            <a:noFill/>
          </a:ln>
        </p:spPr>
      </p:pic>
      <p:sp>
        <p:nvSpPr>
          <p:cNvPr id="12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1080" y="982800"/>
            <a:ext cx="871200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5991120" y="393372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859280" y="3860640"/>
            <a:ext cx="3384720" cy="1702440"/>
            <a:chOff x="4859280" y="3860640"/>
            <a:chExt cx="3384720" cy="1702440"/>
          </a:xfrm>
        </p:grpSpPr>
        <p:grpSp>
          <p:nvGrpSpPr>
            <p:cNvPr id="131" name=""/>
            <p:cNvGrpSpPr/>
            <p:nvPr/>
          </p:nvGrpSpPr>
          <p:grpSpPr>
            <a:xfrm>
              <a:off x="4867560" y="4974840"/>
              <a:ext cx="3360600" cy="360"/>
              <a:chOff x="4867560" y="4974840"/>
              <a:chExt cx="3360600" cy="360"/>
            </a:xfrm>
          </p:grpSpPr>
          <p:sp>
            <p:nvSpPr>
              <p:cNvPr id="132" name="Line 7"/>
              <p:cNvSpPr/>
              <p:nvPr/>
            </p:nvSpPr>
            <p:spPr>
              <a:xfrm>
                <a:off x="4867560" y="497484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4867560" y="497484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59280" y="4420440"/>
              <a:ext cx="3360960" cy="360"/>
              <a:chOff x="4859280" y="4420440"/>
              <a:chExt cx="3360960" cy="360"/>
            </a:xfrm>
          </p:grpSpPr>
          <p:sp>
            <p:nvSpPr>
              <p:cNvPr id="135" name="Line 8"/>
              <p:cNvSpPr/>
              <p:nvPr/>
            </p:nvSpPr>
            <p:spPr>
              <a:xfrm>
                <a:off x="4859280" y="4420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4859280" y="4420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872600" y="5562720"/>
              <a:ext cx="3360960" cy="360"/>
              <a:chOff x="4872600" y="5562720"/>
              <a:chExt cx="3360960" cy="360"/>
            </a:xfrm>
          </p:grpSpPr>
          <p:sp>
            <p:nvSpPr>
              <p:cNvPr id="138" name="Line 9"/>
              <p:cNvSpPr/>
              <p:nvPr/>
            </p:nvSpPr>
            <p:spPr>
              <a:xfrm>
                <a:off x="4872600" y="556272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872600" y="556272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883040" y="3860640"/>
              <a:ext cx="3360960" cy="360"/>
              <a:chOff x="4883040" y="3860640"/>
              <a:chExt cx="3360960" cy="360"/>
            </a:xfrm>
          </p:grpSpPr>
          <p:sp>
            <p:nvSpPr>
              <p:cNvPr id="141" name="Line 10"/>
              <p:cNvSpPr/>
              <p:nvPr/>
            </p:nvSpPr>
            <p:spPr>
              <a:xfrm>
                <a:off x="4883040" y="3860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883040" y="3860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43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96720" y="981000"/>
            <a:ext cx="8352000" cy="53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Arial Unicode MS"/>
              </a:rPr>
              <a:t>→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k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→k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—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Arial Unicode MS"/>
              </a:rPr>
              <a:t>→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</a:t>
            </a:r>
            <a:r>
              <a:rPr b="0" i="1" lang="en-US" sz="44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ɑ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ge   ku   hu   ke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0" i="1" lang="en-US" sz="5400" spc="-1" strike="noStrike" u="sng">
                <a:solidFill>
                  <a:srgbClr val="d9d8ec"/>
                </a:solidFill>
                <a:uFillTx/>
                <a:latin typeface="Arial Unicode MS"/>
                <a:ea typeface="Arial Unicode MS"/>
              </a:rPr>
              <a:t>he  gu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同侧圆角矩形 4"/>
          <p:cNvSpPr/>
          <p:nvPr/>
        </p:nvSpPr>
        <p:spPr>
          <a:xfrm>
            <a:off x="6227640" y="1197000"/>
            <a:ext cx="200052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6227640" y="1904760"/>
            <a:ext cx="2071800" cy="46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268360" y="1886040"/>
            <a:ext cx="4321440" cy="4368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852720" y="2927520"/>
            <a:ext cx="11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g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311720" y="10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Calibri"/>
                <a:ea typeface="华文新魏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210480" y="987480"/>
            <a:ext cx="5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g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8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4368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611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2"/>
              </a:rPr>
              <a:t>K</a:t>
            </a: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3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699720" y="346068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8" descr=""/>
          <p:cNvPicPr/>
          <p:nvPr/>
        </p:nvPicPr>
        <p:blipFill>
          <a:blip r:embed="rId1"/>
          <a:stretch/>
        </p:blipFill>
        <p:spPr>
          <a:xfrm>
            <a:off x="2249640" y="2014560"/>
            <a:ext cx="4319280" cy="4368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979640" y="960480"/>
            <a:ext cx="5521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_x000b_ </a:t>
            </a:r>
            <a:r>
              <a:rPr b="0" i="1" lang="en-US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3"/>
              </a:rPr>
              <a:t>h</a:t>
            </a:r>
            <a:r>
              <a:rPr b="0" i="1" lang="zh-CN" sz="6000" spc="-1" strike="noStrike" u="sng">
                <a:solidFill>
                  <a:srgbClr val="6767ff"/>
                </a:solidFill>
                <a:uFillTx/>
                <a:latin typeface="华文新魏"/>
                <a:ea typeface="华文新魏"/>
                <a:hlinkClick r:id="rId4"/>
              </a:rPr>
              <a:t>的写法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057560" y="3543480"/>
            <a:ext cx="7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1:39:48Z</dcterms:created>
  <dc:creator/>
  <dc:description/>
  <dc:language>en-US</dc:language>
  <cp:lastModifiedBy>万润仪器贸易公司</cp:lastModifiedBy>
  <dcterms:modified xsi:type="dcterms:W3CDTF">2020-08-24T01:39:5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